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C03-C4F7-4830-98B5-9A5C8FEC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7AB-06B7-4AAB-9FD1-8DDF7631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128-D32E-4BDE-ACF6-50D94061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7E6-B09B-4B17-BC91-862BE242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DB2B-AA3D-4D57-A730-CCAFCC6C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0937-34E3-4E4E-B6A8-FE91EB76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A1BA-E576-41F3-AB10-062CEEC3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3068-4109-4529-A18D-F6934E7A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9CC1-AC37-4336-B488-FD05C646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655A-F1CC-468E-AFAC-D82FDA41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94DA-FA82-4FA2-90A4-63316290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C39-5FFE-419D-AB28-C9D682C0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F78F-C9B9-48EB-8140-E6C56738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B90D-EF46-4B19-94C8-B63673A0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D69D-55D3-4BCC-8380-D379E18A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D3B8-D05C-48E8-A92C-B0DC1DFB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CB6D-DD65-45CA-A8C2-65F91EF8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64128-27C2-4855-B42C-F4790E72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FE01-693A-4DA9-83D6-88319920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53C8-E209-488B-8310-A44BE08D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56728-BF2A-45B4-AF4F-6FAE9E37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DCDF-68BA-4969-9286-77E45894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C17-4C4D-4C87-9186-0B853396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7087-700D-4DB6-8764-3508B101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ACEE-2408-4CF5-9FEC-632BCEAA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FF57-A9D8-42AE-A89A-3BBC7C77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2DD77-1052-4F95-A385-CD78B09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701E0-A40B-4838-915A-9725A40F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F1DED-B8D0-4DB0-B9CB-8D80C805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EA428-4A7F-422E-B333-2662E36F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1C8A9-B9A2-463A-A8F5-B1556216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318A4-593B-4508-955F-9E08F83D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BA8C-11DE-4DFD-8418-14139DE9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B4E-CF74-40C9-BD52-BF1F8FCA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8359-25CE-43EC-9971-44477384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B9F6F-9070-4DE8-AC29-C1306CC6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C18B8-B471-4CE4-867E-BEF281B8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3C039-705A-47D8-AAAE-4465D809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C4B8-0ECD-432C-8283-4BF582BC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5ACD9-A908-40A9-A252-79729171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C20CE-EBF7-483C-B18A-86F02F4E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6D9D-C41A-4105-BC9D-A67EDCDA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2F2C8-2A46-44B0-8CA5-12FF794A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965F7-B43F-4167-A08C-4DF69E12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483-2D8D-454C-9EBE-D20A63ED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E73CA-AC74-42EE-813F-B5852FA3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4E67E-489B-4EC5-9321-1484780B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FF58C-D7E7-4DC0-87AD-95B5A4C3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C94A9-3D87-4E79-9AB6-15DB0587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6763C-D29C-4206-90FE-273EF94C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88955-9FD5-4290-B833-AC07067F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80F7D-0C07-402F-A7C0-E4BC63A6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60FBF-1F96-4AF3-9285-B804F76A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2EFA1-3E24-431C-AB0B-B1F7816D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3B8F3-C1C6-4596-9D2A-8FDAE2BD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149-50B3-4710-B43D-9F5CA70F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67D8B-8190-400B-AE1C-7A28C867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8308F-385D-435A-A0BD-88DEA90C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D8341-D569-478B-8312-4879908C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6EECC-34A4-462D-BFC9-0723CB3E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D8E6C-E2C0-4D7F-8837-63A6F8B2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E5954-F02F-4DC1-902B-1812182E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2F881-682F-47AA-A927-4B49D404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B6367-A385-49C9-870D-FAC8FA94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F6E0C-2821-4010-BB16-C6FADC1E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13039-8230-4B3D-809F-592A6A03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B80-251C-4FF0-B467-9CEDD611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05E75-424D-4EAE-A7DC-5B9F2460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95BE2-9389-464A-A3CE-1CA623CC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352D3-2C56-4A67-807C-42796AA4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25BF1-22FA-4F5C-8FB8-7624CF6A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E6297-1AC0-49CA-903B-E10BA372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B8E5A-C8E3-401E-A5B4-29E9D8F3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98C25-8422-4071-9413-E9BABC13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8C9BB-ACA1-49F5-AF64-6A462864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E80F4-D522-4928-A8D9-E6CC4AF3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08BAB-99D2-4981-9467-C96E2F25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7B7-1DB2-4FD8-BE9F-570167A6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6B1D7-E3DA-4E50-B06C-093CDB15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7EF53-5E4B-42D4-BCB4-86432F75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1FF29-4E0A-4E44-A85A-F2249F7F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697C9-B8CD-45DC-B9D7-62F5ABC5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AF44E-5C1D-46C2-BF1A-C43B9B66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65B-B6FD-471B-8D3C-5AD3BB58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7D0C-C9EA-4622-BEC4-80846E1BDA1F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620C-CB06-4FA3-8278-C22EFD0D81F2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E2D9-57AA-4D4E-B2B2-5A3D384871E3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F0E1-9820-4D36-A58A-8C74BC9E3E88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E281-69B9-43D5-BB1B-B0FEC534B769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ABAD-CFCE-4461-B83E-E1035F42B02B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EABB-740D-4429-AA4E-9E13D878CE8D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211560" y="3068640"/>
            <a:ext cx="294480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73e87"/>
                </a:solidFill>
                <a:latin typeface="宋体"/>
              </a:rPr>
              <a:t>课题完成情况（样表）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Candara"/>
                <a:ea typeface="幼圆"/>
              </a:rPr>
              <a:t>大学生创新基金课题结题检查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Candara"/>
                <a:ea typeface="幼圆"/>
              </a:rPr>
              <a:t>PPT</a:t>
            </a:r>
            <a:r>
              <a:rPr b="1" lang="zh-CN" sz="4000" spc="-1" strike="noStrike">
                <a:solidFill>
                  <a:srgbClr val="3333ff"/>
                </a:solidFill>
                <a:latin typeface="Candara"/>
                <a:ea typeface="幼圆"/>
              </a:rPr>
              <a:t>汇报样表</a:t>
            </a:r>
            <a:br>
              <a:rPr sz="4000"/>
            </a:br>
            <a:r>
              <a:rPr b="1" lang="zh-CN" sz="2000" spc="-1" strike="noStrike">
                <a:solidFill>
                  <a:srgbClr val="3333ff"/>
                </a:solidFill>
                <a:latin typeface="Candara"/>
                <a:ea typeface="幼圆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Candara"/>
                <a:ea typeface="幼圆"/>
              </a:rPr>
              <a:t>汇报时长不超过</a:t>
            </a:r>
            <a:r>
              <a:rPr b="1" lang="en-US" sz="2000" spc="-1" strike="noStrike">
                <a:solidFill>
                  <a:srgbClr val="ff0000"/>
                </a:solidFill>
                <a:latin typeface="Candara"/>
                <a:ea typeface="幼圆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Candara"/>
                <a:ea typeface="幼圆"/>
              </a:rPr>
              <a:t>分钟</a:t>
            </a:r>
            <a:r>
              <a:rPr b="1" lang="zh-CN" sz="2000" spc="-1" strike="noStrike">
                <a:solidFill>
                  <a:srgbClr val="3333ff"/>
                </a:solidFill>
                <a:latin typeface="Candara"/>
                <a:ea typeface="幼圆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971640" y="3846600"/>
          <a:ext cx="7056360" cy="1382760"/>
        </p:xfrm>
        <a:graphic>
          <a:graphicData uri="http://schemas.openxmlformats.org/drawingml/2006/table">
            <a:tbl>
              <a:tblPr/>
              <a:tblGrid>
                <a:gridCol w="1295280"/>
                <a:gridCol w="3024360"/>
                <a:gridCol w="2736720"/>
              </a:tblGrid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73e87"/>
                          </a:solidFill>
                          <a:latin typeface="宋体"/>
                          <a:ea typeface="华文楷体"/>
                        </a:rPr>
                        <a:t>课题任务书目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73e87"/>
                          </a:solidFill>
                          <a:latin typeface="宋体"/>
                          <a:ea typeface="华文楷体"/>
                        </a:rPr>
                        <a:t>取得的成果、结论、创新点及价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73e87"/>
                          </a:solidFill>
                          <a:latin typeface="宋体"/>
                          <a:ea typeface="华文楷体"/>
                        </a:rPr>
                        <a:t>课题任务完成情况、存在的问题及自我评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0:56:01Z</dcterms:created>
  <dc:creator>微软系统</dc:creator>
  <dc:description/>
  <dc:language>en-US</dc:language>
  <cp:lastModifiedBy>雨林木风</cp:lastModifiedBy>
  <dcterms:modified xsi:type="dcterms:W3CDTF">2010-11-17T08:25:04Z</dcterms:modified>
  <cp:revision>15</cp:revision>
  <dc:subject/>
  <dc:title>课题结题总结报告写作要点</dc:title>
</cp:coreProperties>
</file>